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DOUCEUR20.wav" ContentType="audio/x-wav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16268-5EDD-42D9-8A58-5174AB5EB7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62BB-B672-4A92-879E-614AAA9E8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0686-491F-4A2A-B719-8273226A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9C13-7E1C-4D30-8056-708564D22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541B-3E1E-4F1B-A667-39192501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9C3B-94A9-47B9-B7B4-7EBD9530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8126-D62B-4659-A69D-7031D978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E719-6B3A-47F2-9478-2B986580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D201-2B6D-44D0-9C2A-D31CA446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3FE9-BAAA-4039-AC15-8FE90BB8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66EF-D727-465E-AB35-BAD8E93B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6DC5-33DF-45F1-9E1D-7A9C77BB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FFE9-44B8-4397-AF72-9ACA09FF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A3868-88C5-4F90-9A50-B7BF4BFEDC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OUCEUR20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52360" y="2266920"/>
            <a:ext cx="8209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algn="ctr">
              <a:lnSpc>
                <a:spcPct val="93000"/>
              </a:lnSpc>
              <a:spcBef>
                <a:spcPts val="975"/>
              </a:spcBef>
              <a:spcAft>
                <a:spcPts val="975"/>
              </a:spcAft>
              <a:tabLst>
                <a:tab algn="l" pos="0"/>
                <a:tab algn="l" pos="493560"/>
                <a:tab algn="l" pos="988920"/>
                <a:tab algn="l" pos="1484280"/>
                <a:tab algn="l" pos="1979640"/>
                <a:tab algn="l" pos="2475000"/>
                <a:tab algn="l" pos="2970360"/>
                <a:tab algn="l" pos="3465360"/>
                <a:tab algn="l" pos="396072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7520"/>
                <a:tab algn="l" pos="9902880"/>
                <a:tab algn="l" pos="9906120"/>
                <a:tab algn="l" pos="10401480"/>
                <a:tab algn="l" pos="1089648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Verdana"/>
                <a:ea typeface="Arial"/>
              </a:rPr>
              <a:t>Schauen Sie die nachfolgenden Bilder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975"/>
              </a:spcBef>
              <a:spcAft>
                <a:spcPts val="975"/>
              </a:spcAft>
              <a:tabLst>
                <a:tab algn="l" pos="0"/>
                <a:tab algn="l" pos="493560"/>
                <a:tab algn="l" pos="988920"/>
                <a:tab algn="l" pos="1484280"/>
                <a:tab algn="l" pos="1979640"/>
                <a:tab algn="l" pos="2475000"/>
                <a:tab algn="l" pos="2970360"/>
                <a:tab algn="l" pos="3465360"/>
                <a:tab algn="l" pos="396072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7520"/>
                <a:tab algn="l" pos="9902880"/>
                <a:tab algn="l" pos="9906120"/>
                <a:tab algn="l" pos="10401480"/>
                <a:tab algn="l" pos="1089648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Verdana"/>
                <a:ea typeface="Arial"/>
              </a:rPr>
              <a:t>und versuchen Sie herauszufinde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975"/>
              </a:spcBef>
              <a:spcAft>
                <a:spcPts val="975"/>
              </a:spcAft>
              <a:tabLst>
                <a:tab algn="l" pos="0"/>
                <a:tab algn="l" pos="493560"/>
                <a:tab algn="l" pos="988920"/>
                <a:tab algn="l" pos="1484280"/>
                <a:tab algn="l" pos="1979640"/>
                <a:tab algn="l" pos="2475000"/>
                <a:tab algn="l" pos="2970360"/>
                <a:tab algn="l" pos="3465360"/>
                <a:tab algn="l" pos="396072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7520"/>
                <a:tab algn="l" pos="9902880"/>
                <a:tab algn="l" pos="9906120"/>
                <a:tab algn="l" pos="10401480"/>
                <a:tab algn="l" pos="1089648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Verdana"/>
                <a:ea typeface="Arial"/>
              </a:rPr>
              <a:t>wem dieser Wohnsitz gehö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800360" y="1403280"/>
            <a:ext cx="705636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algn="ctr">
              <a:lnSpc>
                <a:spcPct val="93000"/>
              </a:lnSpc>
              <a:spcBef>
                <a:spcPts val="975"/>
              </a:spcBef>
              <a:spcAft>
                <a:spcPts val="975"/>
              </a:spcAft>
              <a:tabLst>
                <a:tab algn="l" pos="0"/>
                <a:tab algn="l" pos="493560"/>
                <a:tab algn="l" pos="988920"/>
                <a:tab algn="l" pos="1484280"/>
                <a:tab algn="l" pos="1979640"/>
                <a:tab algn="l" pos="2475000"/>
                <a:tab algn="l" pos="2970360"/>
                <a:tab algn="l" pos="3465360"/>
                <a:tab algn="l" pos="396072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7520"/>
                <a:tab algn="l" pos="9902880"/>
                <a:tab algn="l" pos="9906120"/>
                <a:tab algn="l" pos="10401480"/>
                <a:tab algn="l" pos="1089648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Verdana"/>
                <a:ea typeface="Arial"/>
              </a:rPr>
              <a:t>Können Sie sich vorstelle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975"/>
              </a:spcBef>
              <a:spcAft>
                <a:spcPts val="975"/>
              </a:spcAft>
              <a:tabLst>
                <a:tab algn="l" pos="0"/>
                <a:tab algn="l" pos="493560"/>
                <a:tab algn="l" pos="988920"/>
                <a:tab algn="l" pos="1484280"/>
                <a:tab algn="l" pos="1979640"/>
                <a:tab algn="l" pos="2475000"/>
                <a:tab algn="l" pos="2970360"/>
                <a:tab algn="l" pos="3465360"/>
                <a:tab algn="l" pos="396072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7520"/>
                <a:tab algn="l" pos="9902880"/>
                <a:tab algn="l" pos="9906120"/>
                <a:tab algn="l" pos="10401480"/>
                <a:tab algn="l" pos="1089648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Verdana"/>
                <a:ea typeface="Arial"/>
              </a:rPr>
              <a:t>wer eine solche Residenz besitz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975"/>
              </a:spcBef>
              <a:spcAft>
                <a:spcPts val="975"/>
              </a:spcAft>
              <a:tabLst>
                <a:tab algn="l" pos="0"/>
                <a:tab algn="l" pos="493560"/>
                <a:tab algn="l" pos="988920"/>
                <a:tab algn="l" pos="1484280"/>
                <a:tab algn="l" pos="1979640"/>
                <a:tab algn="l" pos="2475000"/>
                <a:tab algn="l" pos="2970360"/>
                <a:tab algn="l" pos="3465360"/>
                <a:tab algn="l" pos="396072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7520"/>
                <a:tab algn="l" pos="9902880"/>
                <a:tab algn="l" pos="9906120"/>
                <a:tab algn="l" pos="10401480"/>
                <a:tab algn="l" pos="1089648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Verdana"/>
                <a:ea typeface="Arial"/>
              </a:rPr>
              <a:t>und in diesem Luxus lebt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975"/>
              </a:spcBef>
              <a:spcAft>
                <a:spcPts val="975"/>
              </a:spcAft>
              <a:tabLst>
                <a:tab algn="l" pos="0"/>
                <a:tab algn="l" pos="493560"/>
                <a:tab algn="l" pos="988920"/>
                <a:tab algn="l" pos="1484280"/>
                <a:tab algn="l" pos="1979640"/>
                <a:tab algn="l" pos="2475000"/>
                <a:tab algn="l" pos="2970360"/>
                <a:tab algn="l" pos="3465360"/>
                <a:tab algn="l" pos="396072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7520"/>
                <a:tab algn="l" pos="9902880"/>
                <a:tab algn="l" pos="9906120"/>
                <a:tab algn="l" pos="10401480"/>
                <a:tab algn="l" pos="1089648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Verdana"/>
                <a:ea typeface="Arial"/>
              </a:rPr>
              <a:t>Louis XIV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975"/>
              </a:spcBef>
              <a:spcAft>
                <a:spcPts val="975"/>
              </a:spcAft>
              <a:tabLst>
                <a:tab algn="l" pos="0"/>
                <a:tab algn="l" pos="493560"/>
                <a:tab algn="l" pos="988920"/>
                <a:tab algn="l" pos="1484280"/>
                <a:tab algn="l" pos="1979640"/>
                <a:tab algn="l" pos="2475000"/>
                <a:tab algn="l" pos="2970360"/>
                <a:tab algn="l" pos="3465360"/>
                <a:tab algn="l" pos="396072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7520"/>
                <a:tab algn="l" pos="9902880"/>
                <a:tab algn="l" pos="9906120"/>
                <a:tab algn="l" pos="10401480"/>
                <a:tab algn="l" pos="1089648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Verdana"/>
                <a:ea typeface="Arial"/>
              </a:rPr>
              <a:t>Ein amerikanischer Milliardä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975"/>
              </a:spcBef>
              <a:spcAft>
                <a:spcPts val="975"/>
              </a:spcAft>
              <a:tabLst>
                <a:tab algn="l" pos="0"/>
                <a:tab algn="l" pos="493560"/>
                <a:tab algn="l" pos="988920"/>
                <a:tab algn="l" pos="1484280"/>
                <a:tab algn="l" pos="1979640"/>
                <a:tab algn="l" pos="2475000"/>
                <a:tab algn="l" pos="2970360"/>
                <a:tab algn="l" pos="3465360"/>
                <a:tab algn="l" pos="396072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7520"/>
                <a:tab algn="l" pos="9902880"/>
                <a:tab algn="l" pos="9906120"/>
                <a:tab algn="l" pos="10401480"/>
                <a:tab algn="l" pos="1089648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Verdana"/>
                <a:ea typeface="Arial"/>
              </a:rPr>
              <a:t>Ein Prinz oder Em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975"/>
              </a:spcBef>
              <a:spcAft>
                <a:spcPts val="975"/>
              </a:spcAft>
              <a:tabLst>
                <a:tab algn="l" pos="0"/>
                <a:tab algn="l" pos="493560"/>
                <a:tab algn="l" pos="988920"/>
                <a:tab algn="l" pos="1484280"/>
                <a:tab algn="l" pos="1979640"/>
                <a:tab algn="l" pos="2475000"/>
                <a:tab algn="l" pos="2970360"/>
                <a:tab algn="l" pos="3465360"/>
                <a:tab algn="l" pos="396072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7520"/>
                <a:tab algn="l" pos="9902880"/>
                <a:tab algn="l" pos="9906120"/>
                <a:tab algn="l" pos="10401480"/>
                <a:tab algn="l" pos="1089648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Verdana"/>
                <a:ea typeface="Arial"/>
              </a:rPr>
              <a:t>am persischen Golf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440000" y="611280"/>
            <a:ext cx="74880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80"/>
                </a:solidFill>
                <a:latin typeface="Verdana"/>
                <a:ea typeface="Arial"/>
              </a:rPr>
              <a:t>Dieser Wohnsitz befindet sich in Zimbabw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80"/>
                </a:solidFill>
                <a:latin typeface="Verdana"/>
                <a:ea typeface="Arial"/>
              </a:rPr>
              <a:t>in der Stadt Harare und gehör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80"/>
                </a:solidFill>
                <a:latin typeface="Verdana"/>
                <a:ea typeface="Arial"/>
              </a:rPr>
              <a:t>Robert Mugabe</a:t>
            </a:r>
            <a:r>
              <a:rPr b="0" lang="fr-FR" sz="2400" spc="-1" strike="noStrike">
                <a:solidFill>
                  <a:srgbClr val="000080"/>
                </a:solidFill>
                <a:latin typeface="Verdana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80"/>
                </a:solidFill>
                <a:latin typeface="Verdana"/>
                <a:ea typeface="Arial"/>
              </a:rPr>
              <a:t>dem Präsidenten des Lan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448000" y="3203640"/>
            <a:ext cx="54594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31640" y="971640"/>
            <a:ext cx="9269640" cy="48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Verdana"/>
                <a:ea typeface="Arial"/>
              </a:rPr>
              <a:t>Während man bei uns sammelt um seinem Volk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Verdana"/>
                <a:ea typeface="Arial"/>
              </a:rPr>
              <a:t>das vor Hunger stirb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Verdana"/>
                <a:ea typeface="Arial"/>
              </a:rPr>
              <a:t>dem es an Pflege und Medikamenten fehl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Verdana"/>
                <a:ea typeface="Arial"/>
              </a:rPr>
              <a:t>lebt er mit seiner Fami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Verdana"/>
                <a:ea typeface="Arial"/>
              </a:rPr>
              <a:t> </a:t>
            </a:r>
            <a:r>
              <a:rPr b="1" lang="fr-FR" sz="2800" spc="-1" strike="noStrike">
                <a:solidFill>
                  <a:srgbClr val="000080"/>
                </a:solidFill>
                <a:latin typeface="Verdana"/>
                <a:ea typeface="Arial"/>
              </a:rPr>
              <a:t>im reinsten Luxus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80"/>
                </a:solidFill>
                <a:latin typeface="Verdana"/>
                <a:ea typeface="Arial"/>
              </a:rPr>
              <a:t>Senden Sie diese Mail wei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80"/>
                </a:solidFill>
                <a:latin typeface="Verdana"/>
                <a:ea typeface="Arial"/>
              </a:rPr>
              <a:t>damit die Welt erfährt was dieser Präsident seinem Volk antut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840" y="15840"/>
            <a:ext cx="10063080" cy="754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216000" y="0"/>
            <a:ext cx="10296720" cy="758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 k</dc:creator>
  <dc:description/>
  <dc:language>en-US</dc:language>
  <cp:lastModifiedBy>Ihr Benutzername</cp:lastModifiedBy>
  <dcterms:modified xsi:type="dcterms:W3CDTF">2011-01-20T09:01:52Z</dcterms:modified>
  <cp:revision>11</cp:revision>
  <dc:subject/>
  <dc:title>Diapositive 1</dc:title>
</cp:coreProperties>
</file>