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DOUCEUR20.wav" ContentType="audio/x-wav"/>
  <Override PartName="/ppt/media/image14.jpeg" ContentType="image/jpeg"/>
  <Override PartName="/ppt/media/image13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sldImg"/>
          </p:nvPr>
        </p:nvSpPr>
        <p:spPr>
          <a:xfrm>
            <a:off x="1106640" y="812520"/>
            <a:ext cx="5340240" cy="400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0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320"/>
            <a:ext cx="3276720" cy="53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ADB3184-2133-4177-A4CD-B4F100563F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1106640" y="812880"/>
            <a:ext cx="5343480" cy="4006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A021-0285-4863-B6A0-430BBC8EC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05B93-7B7A-4203-94A0-6328E162F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775D8-6F6D-4CCD-A0D1-CE70E5B3C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0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4440" y="176796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0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4440" y="4371480"/>
            <a:ext cx="2919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74346-3CE9-4ED8-B579-78FF0E161C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FF36-6606-4A99-9BC9-DCD9BF45E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AF1D0-38E8-4501-98CC-F064A1907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97F0-247F-4F66-B9A4-443CEEFA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31CC9-6A99-4F9A-8231-4132185D3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680"/>
            <a:ext cx="9066240" cy="5828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9D733-7CA8-4E3B-B55E-1C5E2A2D1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CE097-141B-492B-9F30-71BFAFC45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080" y="437148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7082-6544-4C49-B491-D83203285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080" y="1767960"/>
            <a:ext cx="44240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1480"/>
            <a:ext cx="9066240" cy="237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29E6F-F66F-4378-A155-C0297063A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680"/>
            <a:ext cx="9066240" cy="125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6240" cy="498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28760" indent="-324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0400" indent="-285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2400" indent="-2145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4040" indent="-21276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568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7720" y="6886440"/>
            <a:ext cx="319068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360" y="6886440"/>
            <a:ext cx="2343240" cy="51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8FD854-37AC-4FD2-9292-7A9CECEED7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DOUCEUR20.wav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52360" y="2266920"/>
            <a:ext cx="8209080" cy="194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Schauen Sie die nachfolgenden Bilder a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und versuchen Sie herauszufind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wem dieser Wohnsitz gehört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1800360" y="1403280"/>
            <a:ext cx="705636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9360" rIns="99360" tIns="49680" bIns="49680" anchor="t">
            <a:noAutofit/>
          </a:bodyPr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Können Sie sich vorstellen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wer eine solche Residenz besitzt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und in diesem Luxus lebt?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Louis XIV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Ein amerikanischer Milliardär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Ein Prinz oder Emi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975"/>
              </a:spcBef>
              <a:spcAft>
                <a:spcPts val="975"/>
              </a:spcAft>
              <a:tabLst>
                <a:tab algn="l" pos="0"/>
                <a:tab algn="l" pos="493560"/>
                <a:tab algn="l" pos="988920"/>
                <a:tab algn="l" pos="1484280"/>
                <a:tab algn="l" pos="1979640"/>
                <a:tab algn="l" pos="2475000"/>
                <a:tab algn="l" pos="2970360"/>
                <a:tab algn="l" pos="3465360"/>
                <a:tab algn="l" pos="3960720"/>
                <a:tab algn="l" pos="4454640"/>
                <a:tab algn="l" pos="4950000"/>
                <a:tab algn="l" pos="5445000"/>
                <a:tab algn="l" pos="5940360"/>
                <a:tab algn="l" pos="6435720"/>
                <a:tab algn="l" pos="6931080"/>
                <a:tab algn="l" pos="7426440"/>
                <a:tab algn="l" pos="7921800"/>
                <a:tab algn="l" pos="8416800"/>
                <a:tab algn="l" pos="8912160"/>
                <a:tab algn="l" pos="9407520"/>
                <a:tab algn="l" pos="9902880"/>
                <a:tab algn="l" pos="9906120"/>
                <a:tab algn="l" pos="10401480"/>
                <a:tab algn="l" pos="1089648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am persischen Golf 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440000" y="611280"/>
            <a:ext cx="748800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80"/>
                </a:solidFill>
                <a:latin typeface="Verdana"/>
                <a:ea typeface="Arial"/>
              </a:rPr>
              <a:t>Dieser Wohnsitz befindet sich in Zimbabw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80"/>
                </a:solidFill>
                <a:latin typeface="Verdana"/>
                <a:ea typeface="Arial"/>
              </a:rPr>
              <a:t>in der Stadt Harare und gehört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80"/>
                </a:solidFill>
                <a:latin typeface="Verdana"/>
                <a:ea typeface="Arial"/>
              </a:rPr>
              <a:t>Robert Mugabe</a:t>
            </a:r>
            <a:r>
              <a:rPr b="0" lang="fr-FR" sz="2400" spc="-1" strike="noStrike">
                <a:solidFill>
                  <a:srgbClr val="000080"/>
                </a:solidFill>
                <a:latin typeface="Verdana"/>
                <a:ea typeface="Arial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4107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80"/>
                </a:solidFill>
                <a:latin typeface="Verdana"/>
                <a:ea typeface="Arial"/>
              </a:rPr>
              <a:t>dem Präsidenten des Land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2448000" y="3203640"/>
            <a:ext cx="5459400" cy="3816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31640" y="971640"/>
            <a:ext cx="9269640" cy="484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Während man bei uns sammelt um seinem Volke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das vor Hunger stirb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dem es an Pflege und Medikamenten fehlt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lebt er mit seiner Famil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 </a:t>
            </a:r>
            <a:r>
              <a:rPr b="1" lang="fr-FR" sz="2800" spc="-1" strike="noStrike">
                <a:solidFill>
                  <a:srgbClr val="000080"/>
                </a:solidFill>
                <a:latin typeface="Verdana"/>
                <a:ea typeface="Arial"/>
              </a:rPr>
              <a:t>im reinsten Luxus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80"/>
                </a:solidFill>
                <a:latin typeface="Verdana"/>
                <a:ea typeface="Arial"/>
              </a:rPr>
              <a:t>Senden Sie diese Mail weit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87"/>
              </a:spcBef>
              <a:spcAft>
                <a:spcPts val="887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2000" spc="-1" strike="noStrike">
                <a:solidFill>
                  <a:srgbClr val="000080"/>
                </a:solidFill>
                <a:latin typeface="Verdana"/>
                <a:ea typeface="Arial"/>
              </a:rPr>
              <a:t>damit die Welt erfährt was dieser Präsident seinem Volk antut!!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5840" y="15840"/>
            <a:ext cx="10063080" cy="754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-216000" y="0"/>
            <a:ext cx="10296720" cy="758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75596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 k</dc:creator>
  <dc:description/>
  <dc:language>en-US</dc:language>
  <cp:lastModifiedBy>Ihr Benutzername</cp:lastModifiedBy>
  <dcterms:modified xsi:type="dcterms:W3CDTF">2011-01-20T09:01:52Z</dcterms:modified>
  <cp:revision>11</cp:revision>
  <dc:subject/>
  <dc:title>Diapositive 1</dc:title>
</cp:coreProperties>
</file>