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13.jpeg" ContentType="image/jpeg"/>
  <Override PartName="/ppt/media/image40.jpeg" ContentType="image/jpeg"/>
  <Override PartName="/ppt/media/image44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45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43.jpeg" ContentType="image/jpeg"/>
  <Override PartName="/ppt/media/image39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39B2B-8CDC-4180-B437-DEFB004DC3D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99E323-02E8-40FB-9E93-A6C3DED6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E3E98A-5529-497A-99CF-8438608E8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9D07F9-5607-45A9-A774-07259554B10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00A75C-14CF-40FF-A523-78F34854E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BD30CC-05C7-44D0-B388-A9A55A3F76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52DACF-7C65-49BC-85A1-5991166659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76120E-9280-4224-9C10-AC3979D91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562500-B946-451E-B314-7478580B1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E5C0D6-0581-4995-A307-51E4A89AD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A3E17-DD9B-47C6-88B1-45F5448B4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976EE2-B3DD-4AE8-A52F-488F118CE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6160"/>
            <a:ext cx="213228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en-GB" sz="1200" spc="-1" strike="noStrike">
                <a:solidFill>
                  <a:srgbClr val="898989"/>
                </a:solidFill>
                <a:latin typeface="Calibri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0D2C3068-56BA-41A4-BBBC-3554F624377A}" type="slidenum">
              <a:rPr b="0" lang="en-GB" sz="1200" spc="-1" strike="noStrike">
                <a:solidFill>
                  <a:srgbClr val="898989"/>
                </a:solidFill>
                <a:latin typeface="Calibri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828720"/>
            <a:ext cx="9144000" cy="5200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325440"/>
            <a:ext cx="9144000" cy="6207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0" y="203040"/>
            <a:ext cx="9144000" cy="6451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784080"/>
            <a:ext cx="9144000" cy="5289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71520"/>
            <a:ext cx="9144000" cy="6114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0" y="173160"/>
            <a:ext cx="9144000" cy="6511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233280"/>
            <a:ext cx="9144000" cy="6391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9144000" cy="6359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401760"/>
            <a:ext cx="9144000" cy="6054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849240"/>
            <a:ext cx="9144000" cy="515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447840"/>
            <a:ext cx="9144000" cy="59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538200"/>
            <a:ext cx="9144000" cy="578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843120"/>
            <a:ext cx="9144000" cy="5171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330120"/>
            <a:ext cx="9144000" cy="619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0" y="355680"/>
            <a:ext cx="9144000" cy="614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339840"/>
            <a:ext cx="9144000" cy="6178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279360"/>
            <a:ext cx="9144000" cy="629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127080"/>
            <a:ext cx="9144000" cy="660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284040"/>
            <a:ext cx="9144000" cy="628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0" y="219240"/>
            <a:ext cx="9144000" cy="64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0" y="268200"/>
            <a:ext cx="9144000" cy="632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299880"/>
            <a:ext cx="9144000" cy="625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187200"/>
            <a:ext cx="9144000" cy="648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9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33480" y="0"/>
            <a:ext cx="907704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295200"/>
            <a:ext cx="9144000" cy="6267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858960"/>
            <a:ext cx="9144000" cy="5140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492120"/>
            <a:ext cx="9144000" cy="5873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888840"/>
            <a:ext cx="9144000" cy="5080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09600"/>
            <a:ext cx="9144000" cy="623880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</dc:creator>
  <dc:description/>
  <dc:language>en-US</dc:language>
  <cp:lastModifiedBy>E</cp:lastModifiedBy>
  <cp:revision>0</cp:revision>
  <dc:subject/>
  <dc:title>Slide 1</dc:title>
</cp:coreProperties>
</file>