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2BEAE-6831-420D-A651-A6F9AE73AE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C1626-9C6D-4069-B5A9-E22B6DD8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DAA63-4069-42B0-8892-07F591CE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442EA-922B-44E5-B492-D7270B0C2C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B126-0963-4BF7-8037-06ACCD68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D1E8-26E4-4AF7-BB74-6C8C0D90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0DC38-5F55-423D-B251-36C0E479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EF03-0784-4926-AC06-40FDA047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55460-A875-4F6D-A5A9-04261992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EF468-7D46-41F4-8126-3AFB0ABA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94B2C-E325-4F99-B2E6-546E1AD2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F49D3-8B28-471E-A796-F8DB309D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CF1DB6-375A-4568-994D-794246353B60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9144000" cy="645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4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84040"/>
            <a:ext cx="9144000" cy="628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9144000" cy="635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84080"/>
            <a:ext cx="9144000" cy="52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73160"/>
            <a:ext cx="9144000" cy="65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33280"/>
            <a:ext cx="9144000" cy="639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9144000" cy="635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401760"/>
            <a:ext cx="9144000" cy="60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47840"/>
            <a:ext cx="9144000" cy="59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538200"/>
            <a:ext cx="9144000" cy="57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51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39840"/>
            <a:ext cx="9144000" cy="61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84040"/>
            <a:ext cx="9144000" cy="628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99880"/>
            <a:ext cx="9144000" cy="625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01600"/>
            <a:ext cx="9144000" cy="64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4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632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299880"/>
            <a:ext cx="9144000" cy="625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87200"/>
            <a:ext cx="9144000" cy="648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480" y="0"/>
            <a:ext cx="907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95200"/>
            <a:ext cx="9144000" cy="626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858960"/>
            <a:ext cx="9144000" cy="51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92120"/>
            <a:ext cx="9144000" cy="587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888840"/>
            <a:ext cx="9144000" cy="50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09600"/>
            <a:ext cx="9144000" cy="623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</dc:creator>
  <dc:description/>
  <dc:language>en-US</dc:language>
  <cp:lastModifiedBy>E</cp:lastModifiedBy>
  <cp:revision>0</cp:revision>
  <dc:subject/>
  <dc:title>Slide 1</dc:title>
</cp:coreProperties>
</file>